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B5937-77BF-4411-A2B1-24A13B55CA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9C093-6F76-4DF8-A7F5-7BFCA2CCD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C5CE6-6732-40CB-84C5-620DDA00C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his slide to advance to play the embedded You tube clip – 1minute. You need Internet access to pla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A39A8-8651-42CB-A080-DC617FB3D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Tube Video clip 60sec. If this video clip doesn’t play, The You Tube link is: https://youtu.be/a-LX-nLkbRU or download from https://alltogether.co.nz/hopeprojec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E5BB3-5115-4835-BA37-CB090B9C2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C1DF8-4E99-4E47-802E-3F4DF3131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299-AC0E-485D-A14A-DCC9F60D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DCD-B3B7-4CE1-8541-B97257BE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F6F2-6CA6-4189-A204-91463EF8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D66-9F5E-414B-89AC-057118D0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D3A-7DEC-433C-AB7D-83373AC0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2F0-A777-4432-9F57-7EA4700A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432-EA3B-4701-A929-98E6D4BE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C33-6982-4C68-8B29-AF3A1D53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9C1A-EAEE-4477-936B-46D8A298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4CC-19C1-49BA-9D84-81BDA7CD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FDF-91FB-4135-B71D-6ACA05EF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2EF-E52A-49EC-B631-A3E72576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1A04D-556C-43F8-882B-2E2774DFF5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A48EE-6638-4F64-96FF-C8664F634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 rot="16200000">
            <a:off x="-3176280" y="197604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is video clip doesn’t play, the link is: https://youtu.be/a-LX-nLkbRU or download from https://alltogether.co.nz/hopeproj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Hope Project 2018 promo video 60sec 1056HD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97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01:32:27Z</dcterms:created>
  <dc:creator>dave mann</dc:creator>
  <dc:description/>
  <dc:language>en-US</dc:language>
  <cp:lastModifiedBy>Beau Spicer</cp:lastModifiedBy>
  <dcterms:modified xsi:type="dcterms:W3CDTF">2018-01-25T03:19:42Z</dcterms:modified>
  <cp:revision>39</cp:revision>
  <dc:subject/>
  <dc:title>Slide 1</dc:title>
</cp:coreProperties>
</file>